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E93-8148-42CD-AEAE-ED95D257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8F0-709C-48C6-9C25-03ACD75E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043-8BDE-4503-AD87-8DE47AA7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109-8D0E-4544-9B54-7138E394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A0DA-8E24-47D7-AD6C-14201BEE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8856-D065-4B3F-8FF0-214861B1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D4C5-7C1B-4A15-BE6A-5DB86F76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07BC-D095-4390-B3D5-D8BC0C18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DB20-8D95-4036-B613-594BE3D2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DE9F-3CE9-4DEF-9244-B5B8B8C7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84A1-4CD2-488F-A9BF-FBEF5655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284-5D15-4FA0-B0DB-CADC9DF2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CE0B-383F-45DC-9AD9-4487250F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3160-77A5-49CA-BE12-01D31ABA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6CA7-562C-48B3-B759-57E54792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9D76-4810-4BBD-9DA4-F4F17052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2841-CA86-459A-AE09-E75AF8C1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AE5-F475-4706-BF3C-FE6CA56F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74D-1921-4DE2-A099-E61D02F8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A3DB-F33E-4B6D-A60B-CF525C3A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20C-589F-4F8F-9C9C-72417CEE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77E-AB51-47C8-902A-8E0CEDE2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3EE-D575-4AE4-96A9-C10F078C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170-AE9C-4D0C-A3CF-854EE51C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FFFF-8CC7-4443-8A30-CA5910C15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F7A7-2153-4753-8320-6924AFC99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34920" y="333360"/>
            <a:ext cx="21416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Llinell rif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10920" y="105228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lwch chi roi’r rhifau o 1 i 7 yn y cylchoedd fel bo cyfanswm pob llinell yn 1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35280" y="2349360"/>
            <a:ext cx="5184360" cy="3953160"/>
            <a:chOff x="1835280" y="2349360"/>
            <a:chExt cx="5184360" cy="3953160"/>
          </a:xfrm>
        </p:grpSpPr>
        <p:sp>
          <p:nvSpPr>
            <p:cNvPr id="101" name=""/>
            <p:cNvSpPr/>
            <p:nvPr/>
          </p:nvSpPr>
          <p:spPr>
            <a:xfrm flipH="1">
              <a:off x="2320560" y="2958120"/>
              <a:ext cx="4049640" cy="2889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82920" y="2958120"/>
              <a:ext cx="3887640" cy="273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835280" y="2349360"/>
              <a:ext cx="5184360" cy="1215000"/>
              <a:chOff x="1835280" y="2349360"/>
              <a:chExt cx="5184360" cy="1215000"/>
            </a:xfrm>
          </p:grpSpPr>
          <p:sp>
            <p:nvSpPr>
              <p:cNvPr id="104" name=""/>
              <p:cNvSpPr/>
              <p:nvPr/>
            </p:nvSpPr>
            <p:spPr>
              <a:xfrm>
                <a:off x="2320920" y="3021120"/>
                <a:ext cx="40510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835280" y="2349360"/>
                <a:ext cx="1296720" cy="121500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79640" y="2349360"/>
                <a:ext cx="1295280" cy="1215000"/>
              </a:xfrm>
              <a:prstGeom prst="ellipse">
                <a:avLst/>
              </a:prstGeom>
              <a:solidFill>
                <a:srgbClr val="cc99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722920" y="2349360"/>
                <a:ext cx="1296720" cy="1215000"/>
              </a:xfrm>
              <a:prstGeom prst="ellipse">
                <a:avLst/>
              </a:prstGeom>
              <a:solidFill>
                <a:srgbClr val="3366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779640" y="3718440"/>
              <a:ext cx="1296720" cy="121500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835280" y="5087520"/>
              <a:ext cx="5184360" cy="1215000"/>
              <a:chOff x="1835280" y="5087520"/>
              <a:chExt cx="5184360" cy="1215000"/>
            </a:xfrm>
          </p:grpSpPr>
          <p:sp>
            <p:nvSpPr>
              <p:cNvPr id="110" name=""/>
              <p:cNvSpPr/>
              <p:nvPr/>
            </p:nvSpPr>
            <p:spPr>
              <a:xfrm>
                <a:off x="2320920" y="5759280"/>
                <a:ext cx="405108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835280" y="5087520"/>
                <a:ext cx="1296720" cy="121500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79640" y="5087520"/>
                <a:ext cx="1295280" cy="1215000"/>
              </a:xfrm>
              <a:prstGeom prst="ellipse">
                <a:avLst/>
              </a:prstGeom>
              <a:solidFill>
                <a:srgbClr val="ff66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22920" y="5087520"/>
                <a:ext cx="1296720" cy="1215000"/>
              </a:xfrm>
              <a:prstGeom prst="ellipse">
                <a:avLst/>
              </a:prstGeom>
              <a:solidFill>
                <a:srgbClr val="8000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39:13Z</dcterms:created>
  <dc:creator>Carwyn</dc:creator>
  <dc:description/>
  <dc:language>en-US</dc:language>
  <cp:lastModifiedBy>Carwyn</cp:lastModifiedBy>
  <dcterms:modified xsi:type="dcterms:W3CDTF">2008-12-07T19:42:42Z</dcterms:modified>
  <cp:revision>1</cp:revision>
  <dc:subject/>
  <dc:title>Llinell rif</dc:title>
</cp:coreProperties>
</file>